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239-354E-4490-ACF5-BD290750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C47-4F60-44E9-B9FB-794A3A6F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E67-B4B5-4278-9EE2-2C07590C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EDF-D54A-4932-8FD1-EA00A088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3E0-7FFA-45F3-A250-FED121D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D2E-E109-4486-81BB-135CE8B7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1C9-7D2E-429A-A330-2BB16FAC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E6D-0FA0-4818-9E6F-9642DCAA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044-8B12-489D-A24A-11F196C5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BED-0319-46EA-B459-7BF61415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F5E-19DA-4CC4-8C51-1548A022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478-B9DD-469D-B976-E044858D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931C-8BA8-412E-85E0-6C3B5DC7A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99"/>
                </a:solidFill>
                <a:latin typeface="Comic Sans MS"/>
              </a:rPr>
              <a:t>Estructur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Trabajo 2º trime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Fuerzas de torsió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uando una fuerza de torsión es aplicada a una barra la barra se arremolina. La barra se torsio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de tensió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erzas que hacen que una barra se estire o se alarg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de cizall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erzas que actúan sobre una barra que hace que se deslice  sobre la ot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ciones de la estru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una barra está sometida a una fuerza de tensión, una barra plana, un cable o un alambre se pueden usar exitos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 todas esas formas o secciones son pobres en co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Es capaz de transportar su peso por el cual está diseñado sin volcarse ni derrumbar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Soporta las partes del objeto en su correcta 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Tipos de 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Estructura de armazón: el armazón está hecho por la unión de barras juntas. Algunos edificios tienen estructura de armazón por la cual se puede ver una dura construc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Otras estructuras están formadas de una manera diferente, que se llama estructura lami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Fracaso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Desde hace tiempo, algo se hizo mal con un diseño y las estructuras no cumplieron su cometido. Hay muchas causas de que las estructuras fallaran y pueden ser por el mal diseño, fatiga y el fracaso de la unión del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Fracaso ocurre por las fuerzas que actuaban en la estructura. A esas se les llama fuerzas estáticas, que hacen dúo a las estructuras con su propio peso o la carga que tiene que transportar que se llama fuerzas dinámicas producidas por el viento, el mar, vehículos y 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Estructuras ríg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Cuando las fuerzas son aplicadas a una simple estructura se puede reforzar la figura; llamada estructura no rígida. La estructura, por tanto, no es forzada y se llama estructura rígida. Las barras adicionales forman triángulos en la estructura. El efecto es llamado triangu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e: es una estructura que no se vuelca fácilmente cuando es aplicada sobre ella una fuer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stable: es cuando una fuerza se aplica a una estructura, se inclina y se vuel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 de gravedad: es el punto respecto al cuál las fuerzas que la gravedad ejerce sobre los diferentes puntos materiales que constituyen el cuerpo producen un momento resultante n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Fuerzas en las estructuras de arm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tensión: fuerzas que hacen que una barra se estire o se alarg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compresión:  fuerzas que hacen que los cuerpos se doblen o se aplas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cizalla: estas fuerzas actúan en una parte de la estructura que hace que se deslicen una sobre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torsión: cuando las fuerzas de rotación son aplicadas a una barra se arremolina. La barra está en estado de to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flexión: las fuerzas actúan en un ángulo de la barra que tiende a flexio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uv.es/ocw/ocwsecundaria/traccycompr.jpg"/>
          <p:cNvPicPr/>
          <p:nvPr/>
        </p:nvPicPr>
        <p:blipFill>
          <a:blip r:embed="rId1"/>
          <a:stretch/>
        </p:blipFill>
        <p:spPr>
          <a:xfrm>
            <a:off x="1143000" y="1500120"/>
            <a:ext cx="6429240" cy="450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Fuerzas de compresión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fuerzas que hacen que los cuerpos se doblen o se aplas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Fuerzas de flexión: </a:t>
            </a: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fuerzas que actúan en un ángulo de la barra que tiende a flexionar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9:42:05Z</dcterms:created>
  <dc:creator>alumno10</dc:creator>
  <dc:description/>
  <dc:language>en-US</dc:language>
  <cp:lastModifiedBy>alumno10</cp:lastModifiedBy>
  <dcterms:modified xsi:type="dcterms:W3CDTF">2010-02-17T20:19:12Z</dcterms:modified>
  <cp:revision>8</cp:revision>
  <dc:subject/>
  <dc:title>Estructuras</dc:title>
</cp:coreProperties>
</file>