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FAF-9BE1-4227-BFA2-BF394B43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3E0-B0C2-49F2-8C89-9B40FA21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91F-9211-4405-9058-62E4D2DA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B7D-1173-4428-B9AA-A0180B47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959-7AF4-4A24-8915-5961ED40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F5A-6E8E-4CC5-9179-4115524D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11A-C328-4C4C-9914-D643F0AE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02F-7315-46F5-915E-61AD9331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676-41A5-4915-82D3-DFDBB512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B93-0D2D-46F6-82E9-A82706AD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0AF-0423-43FE-8AB3-C2E5885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EF9-CB7A-430F-82FC-A3861E0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E1C9-D2BD-413D-B774-11783C6C3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99"/>
                </a:solidFill>
                <a:latin typeface="Comic Sans MS"/>
              </a:rPr>
              <a:t>Estructur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Trabajo 2º trime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Fuerzas de torsió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uando una fuerza de torsión es aplicada a una barra la barra se arremolina. La barra se torsio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de tensió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erzas que hacen que una barra se estire o se alarg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de cizall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erzas que actúan sobre una barra que hace que se deslice  sobre la ot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ciones de la estru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una barra está sometida a una fuerza de tensión, una barra plana, un cable o un alambre se pueden usar exitos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 todas esas formas o secciones son pobres en co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Es capaz de transportar su peso por el cual está diseñado sin volcarse ni derrumb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Soporta las partes del objeto en su correcta 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Tipos de 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Estructura de armazón: el armazón está hecho por la unión de barras juntas. Algunos edificios tienen estructura de armazón por la cual se puede ver una dura construc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Otras estructuras están formadas de una manera diferente, que se llama estructura lami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Fracaso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Desde hace tiempo, algo se hizo mal con un diseño y las estructuras no cumplieron su cometido. Hay muchas causas de que las estructuras fallaran y pueden ser por el mal diseño, fatiga y el fracaso de la unión del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Fracaso ocurre por las fuerzas que actuaban en la estructura. A esas se les llama fuerzas estáticas, que hacen dúo a las estructuras con su propio peso o la carga que tiene que transportar que se llama fuerzas dinámicas producidas por el viento, el mar, vehículos y 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Estructuras ríg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Cuando las fuerzas son aplicadas a una simple estructura se puede reforzar la figura; llamada estructura no rígida. La estructura, por tanto, no es forzada y se llama estructura rígida. Las barras adicionales forman triángulos en la estructura. El efecto es llamado triangu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e: es una estructura que no se vuelca fácilmente cuando es aplicada sobre ella una fuer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stable: es cuando una fuerza se aplica a una estructura, se inclina y se vuel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 de gravedad: es el punto respecto al cuál las fuerzas que la gravedad ejerce sobre los diferentes puntos materiales que constituyen el cuerpo producen un momento resultante n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Fuerzas en las estructuras de arm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tensión: fuerzas que hacen que una barra se estire o se alarg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compresión:  fuerzas que hacen que los cuerpos se doblen o se aplas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cizalla: estas fuerzas actúan en una parte de la estructura que hace que se deslicen una sobre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torsión: cuando las fuerzas de rotación son aplicadas a una barra se arremolina. La barra está en estado de to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flexión: las fuerzas actúan en un ángulo de la barra que tiende a flexio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uv.es/ocw/ocwsecundaria/traccycompr.jpg"/>
          <p:cNvPicPr/>
          <p:nvPr/>
        </p:nvPicPr>
        <p:blipFill>
          <a:blip r:embed="rId1"/>
          <a:stretch/>
        </p:blipFill>
        <p:spPr>
          <a:xfrm>
            <a:off x="1143000" y="1500120"/>
            <a:ext cx="64292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Fuerzas de compresión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fuerzas que hacen que los cuerpos se doblen o se aplas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Fuerzas de flexión: </a:t>
            </a: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fuerzas que actúan en un ángulo de la barra que tiende a flexiona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9:42:05Z</dcterms:created>
  <dc:creator>alumno10</dc:creator>
  <dc:description/>
  <dc:language>en-US</dc:language>
  <cp:lastModifiedBy>alumno10</cp:lastModifiedBy>
  <dcterms:modified xsi:type="dcterms:W3CDTF">2010-02-17T20:19:12Z</dcterms:modified>
  <cp:revision>8</cp:revision>
  <dc:subject/>
  <dc:title>Estructuras</dc:title>
</cp:coreProperties>
</file>