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82C-7FDE-4216-A0BB-26E40F41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AC1-E80D-4804-A3D2-A134B0F3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DB7-ECC6-4E2F-858B-06677DB5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F9D-A6F5-46BE-83FF-EEBF7720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5C1-C21F-4F55-9A2C-29809E3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3D0-9233-47BF-8CF0-5B52940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9E1-52CD-4592-BC6A-85019AD6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109-A307-4FFE-83E8-D1A937C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916-CD82-4C8F-B70D-F8EC1C94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955-CB25-4848-9E35-D27C695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7C-4D25-4F4A-A53C-0619FD8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F3D-AFC8-4270-BB67-45B192B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A2FC-B31F-4291-A330-4B83CCCD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Estructur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Trabajo 2º trime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Fuerzas de tor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uando una fuerza de torsión es aplicada a una barra la barra se arremolina. La barra se torsio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ten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hacen que una barra se estire o se alarg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cizall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actúan sobre una barra que hace que se deslice  sobre la ot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ones de la 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una barra está sometida a una fuerza de tensión, una barra plana, un cable o un alambre se pueden usar exitos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 todas esas formas o secciones son pobres en co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 capaz de transportar su peso por el cual está diseñado sin volcarse ni derrumb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Soporta las partes del objeto en su correcta 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ipos de 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tructura de armazón: el armazón está hecho por la unión de barras juntas. Algunos edificios tienen estructura de armazón por la cual se puede ver una dura constru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Otras estructuras están formadas de una manera diferente, que se llama estructura la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racaso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Desde hace tiempo, algo se hizo mal con un diseño y las estructuras no cumplieron su cometido. Hay muchas causas de que las estructuras fallaran y pueden ser por el mal diseño, fatiga y el fracaso de la unión de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Fracaso ocurre por las fuerzas que actuaban en la estructura. A esas se les llama fuerzas estáticas, que hacen dúo a las estructuras con su propio peso o la carga que tiene que transportar que se llama fuerzas dinámicas producidas por el viento, el mar, vehículos y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ructuras rí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Cuando las fuerzas son aplicadas a una simple estructura se puede reforzar la figura; llamada estructura no rígida. La estructura, por tanto, no es forzada y se llama estructura rígida. Las barras adicionales forman triángulos en la estructura. El efecto es llamado triangu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e: es una estructura que no se vuelca fácilmente cuando es aplicada sobre ella una fuer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stable: es cuando una fuerza se aplica a una estructura, se inclina y se vuel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 de gravedad: es el punto respecto al cuál las fuerzas que la gravedad ejerce sobre los diferentes puntos materiales que constituyen el cuerpo producen un momento resultante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uerzas en las estructuras de arm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ensión: fuerzas que hacen que una barra se estire o se alarg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ompresión:  fuerzas que hacen que los cuerpos se doblen o se aplas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izalla: estas fuerzas actúan en una parte de la estructura que hace que se deslicen una sobre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orsión: cuando las fuerzas de rotación son aplicadas a una barra se arremolina. La barra está en estado de to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flexión: las fuerzas actúan en un ángulo de la barra que tiende a flexio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uv.es/ocw/ocwsecundaria/traccycompr.jpg"/>
          <p:cNvPicPr/>
          <p:nvPr/>
        </p:nvPicPr>
        <p:blipFill>
          <a:blip r:embed="rId1"/>
          <a:stretch/>
        </p:blipFill>
        <p:spPr>
          <a:xfrm>
            <a:off x="1143000" y="150012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Fuerzas de compresió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fuerzas que hacen que los cuerpos se doblen o se aplas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Fuerzas de flexión: </a:t>
            </a: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fuerzas que actúan en un ángulo de la barra que tiende a flexiona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9:42:05Z</dcterms:created>
  <dc:creator>alumno10</dc:creator>
  <dc:description/>
  <dc:language>en-US</dc:language>
  <cp:lastModifiedBy>alumno10</cp:lastModifiedBy>
  <dcterms:modified xsi:type="dcterms:W3CDTF">2010-02-17T20:19:12Z</dcterms:modified>
  <cp:revision>8</cp:revision>
  <dc:subject/>
  <dc:title>Estructuras</dc:title>
</cp:coreProperties>
</file>