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DB33-E89F-4357-B8BA-09148EE61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A141-A9BD-42AD-9049-13BD1D5A8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ADE2-EA34-4346-BFC3-93B1D984D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EA22-8725-470E-98BA-24C8E3293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5DB3-2D77-4219-B63C-B2512B5E8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D66F-AED3-4993-9F7A-9F999A49B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9A4B-9089-43D8-870A-6AAE08C53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DE9D-0F50-4617-81EF-9A12AC336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4B78-A9AC-4BA4-A9A1-13F0457A8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25B8-9393-4C7F-AC9A-FF7441BC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51BF-8930-440A-8669-D5B747166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D3C2-B949-45AC-ADB8-1FFF6DCDC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01020-2D01-4ECC-81BA-6F10645863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99"/>
                </a:solidFill>
                <a:latin typeface="Comic Sans MS"/>
              </a:rPr>
              <a:t>Estructura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66ff"/>
                </a:solidFill>
                <a:latin typeface="Comic Sans MS"/>
              </a:rPr>
              <a:t>Trabajo 2º trimest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Arial"/>
              </a:rPr>
              <a:t>Fuerzas de torsió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cuando una fuerza de torsión es aplicada a una barra la barra se arremolina. La barra se torsion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erzas de tensió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fuerzas que hacen que una barra se estire o se alargu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erzas de cizalla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fuerzas que actúan sobre una barra que hace que se deslice  sobre la otr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ciones de la estruc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ando una barra está sometida a una fuerza de tensión, una barra plana, un cable o un alambre se pueden usar exitosam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 embargo todas esas formas o secciones son pobres en compre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Defini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Es capaz de transportar su peso por el cual está diseñado sin volcarse ni derrumbar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Soporta las partes del objeto en su correcta posi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Tipos de estructu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Estructura de armazón: el armazón está hecho por la unión de barras juntas. Algunos edificios tienen estructura de armazón por la cual se puede ver una dura construcció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Otras estructuras están formadas de una manera diferente, que se llama estructura lamin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Fracaso estructu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ff"/>
                </a:solidFill>
                <a:latin typeface="Arial"/>
              </a:rPr>
              <a:t>Desde hace tiempo, algo se hizo mal con un diseño y las estructuras no cumplieron su cometido. Hay muchas causas de que las estructuras fallaran y pueden ser por el mal diseño, fatiga y el fracaso de la unión del mater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ff"/>
                </a:solidFill>
                <a:latin typeface="Arial"/>
              </a:rPr>
              <a:t>Fracaso ocurre por las fuerzas que actuaban en la estructura. A esas se les llama fuerzas estáticas, que hacen dúo a las estructuras con su propio peso o la carga que tiene que transportar que se llama fuerzas dinámicas producidas por el viento, el mar, vehículos y g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Estructuras rígid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Cuando las fuerzas son aplicadas a una simple estructura se puede reforzar la figura; llamada estructura no rígida. La estructura, por tanto, no es forzada y se llama estructura rígida. Las barras adicionales forman triángulos en la estructura. El efecto es llamado triangul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Estab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e: es una estructura que no se vuelca fácilmente cuando es aplicada sobre ella una fuerz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estable: es cuando una fuerza se aplica a una estructura, se inclina y se vuel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o de gravedad: es el punto respecto al cuál las fuerzas que la gravedad ejerce sobre los diferentes puntos materiales que constituyen el cuerpo producen un momento resultante nu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Fuerzas en las estructuras de armaz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erzas de tensión: fuerzas que hacen que una barra se estire o se alarg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erzas de compresión:  fuerzas que hacen que los cuerpos se doblen o se aplast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erzas de cizalla: estas fuerzas actúan en una parte de la estructura que hace que se deslicen una sobre ot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erzas de torsión: cuando las fuerzas de rotación son aplicadas a una barra se arremolina. La barra está en estado de tors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erzas de flexión: las fuerzas actúan en un ángulo de la barra que tiende a flexionar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www.uv.es/ocw/ocwsecundaria/traccycompr.jpg"/>
          <p:cNvPicPr/>
          <p:nvPr/>
        </p:nvPicPr>
        <p:blipFill>
          <a:blip r:embed="rId1"/>
          <a:stretch/>
        </p:blipFill>
        <p:spPr>
          <a:xfrm>
            <a:off x="1143000" y="1500120"/>
            <a:ext cx="6429240" cy="45007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9933"/>
                </a:solidFill>
                <a:latin typeface="Arial"/>
              </a:rPr>
              <a:t>  </a:t>
            </a:r>
            <a:r>
              <a:rPr b="0" lang="en-US" sz="6000" spc="-1" strike="noStrike">
                <a:solidFill>
                  <a:srgbClr val="ff9933"/>
                </a:solidFill>
                <a:latin typeface="Arial"/>
              </a:rPr>
              <a:t>Fuerzas de compresión: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9933"/>
                </a:solidFill>
                <a:latin typeface="Arial"/>
              </a:rPr>
              <a:t>  </a:t>
            </a:r>
            <a:r>
              <a:rPr b="0" lang="en-US" sz="6000" spc="-1" strike="noStrike">
                <a:solidFill>
                  <a:srgbClr val="ffc000"/>
                </a:solidFill>
                <a:latin typeface="Arial"/>
              </a:rPr>
              <a:t>fuerzas que hacen que los cuerpos se doblen o se aplasten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Fuerzas de flexión: </a:t>
            </a:r>
            <a:r>
              <a:rPr b="0" lang="en-US" sz="4400" spc="-1" strike="noStrike">
                <a:solidFill>
                  <a:srgbClr val="0099ff"/>
                </a:solidFill>
                <a:latin typeface="Arial"/>
              </a:rPr>
              <a:t>fuerzas que actúan en un ángulo de la barra que tiende a flexionars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19:42:05Z</dcterms:created>
  <dc:creator>alumno10</dc:creator>
  <dc:description/>
  <dc:language>en-US</dc:language>
  <cp:lastModifiedBy>alumno10</cp:lastModifiedBy>
  <dcterms:modified xsi:type="dcterms:W3CDTF">2010-02-17T20:19:12Z</dcterms:modified>
  <cp:revision>8</cp:revision>
  <dc:subject/>
  <dc:title>Estructuras</dc:title>
</cp:coreProperties>
</file>